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7A715-6A28-4F4F-A1D4-CC7A377A2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29713-5BF3-4E48-B474-783736DA7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437EF-D209-4356-9C66-B61E1E050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4A4B6-4DFA-4A92-B785-ADD53EAC8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09B7F-89DB-425F-9163-8EF234468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68592-5060-49A5-B647-8FE0389D3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9C204-43A1-4FDB-AC81-163E6B265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18FA1-FBF7-47D3-B245-B77EE4A4F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BEA3D-5A5D-4BBD-90C2-4475CC3F3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B8AFE-F0B3-46DE-B21D-04D57D64F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18F1A-DC59-4EF4-923D-7DAC41CD7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2965-E132-4B6E-B6AC-3309A5CFE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E65C5-95B8-4EE9-9479-0F7DD7680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40861-535E-49F1-807C-F4F706F3A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D3C64-ED9D-4D41-A2A3-8079CBFFA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0BB49-EC25-423A-9870-F70B28F47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A3D84-6B82-49B0-9A4D-6B891E83A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B44965-8126-4C13-894F-40A93FB13C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3DE95-D882-4FE0-A1EB-479690912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EE5D0-FE90-45B1-96D7-98A335A13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98009-45F4-4D87-BC55-A943CA609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C1B3B-C235-4BEE-AD06-6EDD317C2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626B1-93C5-4D03-901E-97038D65F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31B8B-13C0-4838-B0F0-F4443D60D8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77AE2-91FD-4E7F-ADAA-8A87968FA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4392C-F0D2-4284-8916-62B5E77C2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F00C8-0A93-4F3A-8ADC-6F7688888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456E43-B059-4B81-8008-A99EB60CA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439A5F-E38D-40F7-8510-53B0CC89A4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40AE63-6AA5-4854-9C51-0409C8C997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40465C-42BF-421A-8D41-CFC01B05F9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9A86D-A5CA-4AFE-AFB7-918F98835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39A78-ECF8-44DC-B1D0-4F5E99E68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2F19-057D-4261-86BA-0B499C004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9D9E48-90A7-4305-BED0-65D0FB685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DE6F9-936B-4FAB-A334-910A275DFB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0C90E-6661-4EF8-8B19-64B682D96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13D72-AFC7-4AE8-86AB-6F3EB78EC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F0C46-2542-4CE4-828F-95CB0BD33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60F78-34A2-40DA-A8C6-B5B0196A4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28018-FF65-434D-A684-B0824DC04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59F564-74E1-46A9-A9DE-1DB3F303B1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3BBE54-1250-410A-89F2-012E964C7A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B7B1-47E0-449E-B627-9C1A13F39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5A0B6-9C90-4F06-B3C6-0FB249927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BBB4-0A51-446D-A587-F69139DE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F909-E1B8-447B-8D7A-EEEC75B4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8FAC-70F8-4996-8B2A-1BBB78F66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793E-30CB-43AF-92CB-4C120F5F0D6D}"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6080-B57F-4BC1-8E67-E326B677C51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9646-B0CE-45A5-A189-8251EA30D70E}"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F222-1D44-47BD-941C-233511A59C0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4F27-3484-45C6-AB72-D139D3F4211B}"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3C59-C3AC-4DE8-B3A4-D3591E00E70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99F1-4FFC-4864-8DF6-A78F6F8F2957}"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EB40-50F4-45AF-A81B-EEB0B5F6F9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le 1" descr=""/>
          <p:cNvPicPr/>
          <p:nvPr/>
        </p:nvPicPr>
        <p:blipFill>
          <a:blip r:embed="rId2"/>
          <a:stretch/>
        </p:blipFill>
        <p:spPr>
          <a:xfrm>
            <a:off x="353880" y="384120"/>
            <a:ext cx="7815240" cy="2011320"/>
          </a:xfrm>
          <a:prstGeom prst="rect">
            <a:avLst/>
          </a:prstGeom>
          <a:ln w="0">
            <a:noFill/>
          </a:ln>
        </p:spPr>
      </p:pic>
      <p:sp>
        <p:nvSpPr>
          <p:cNvPr id="197" name="PlaceHolder 1"/>
          <p:cNvSpPr>
            <a:spLocks noGrp="1"/>
          </p:cNvSpPr>
          <p:nvPr>
            <p:ph type="subTitle"/>
          </p:nvPr>
        </p:nvSpPr>
        <p:spPr>
          <a:xfrm>
            <a:off x="2571840" y="4428720"/>
            <a:ext cx="3643200" cy="9860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Muneeb Alam $</a:t>
            </a:r>
            <a:endParaRPr b="0" lang="en-US" sz="2600" spc="-1" strike="noStrike">
              <a:solidFill>
                <a:srgbClr val="ffffff"/>
              </a:solidFill>
              <a:latin typeface="Constantia"/>
            </a:endParaRPr>
          </a:p>
        </p:txBody>
      </p:sp>
      <p:sp>
        <p:nvSpPr>
          <p:cNvPr id="19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5AA4-B793-431B-8873-3173B01C60BD}"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9"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areer Exploration Project</a:t>
            </a:r>
            <a:endParaRPr b="0" lang="en-US" sz="1200" spc="-1" strike="noStrike">
              <a:solidFill>
                <a:srgbClr val="000000"/>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870120"/>
            <a:ext cx="7239240" cy="870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u="sng">
              <a:solidFill>
                <a:srgbClr val="ff0000"/>
              </a:solidFill>
              <a:uFillTx/>
              <a:latin typeface="Calibri"/>
            </a:endParaRPr>
          </a:p>
        </p:txBody>
      </p:sp>
      <p:sp>
        <p:nvSpPr>
          <p:cNvPr id="235" name=""/>
          <p:cNvSpPr txBox="1"/>
          <p:nvPr/>
        </p:nvSpPr>
        <p:spPr>
          <a:xfrm>
            <a:off x="457200" y="928800"/>
            <a:ext cx="7238880" cy="5527440"/>
          </a:xfrm>
          <a:prstGeom prst="rect">
            <a:avLst/>
          </a:prstGeom>
          <a:noFill/>
          <a:ln w="0">
            <a:noFill/>
          </a:ln>
        </p:spPr>
        <p:txBody>
          <a:bodyPr lIns="90000" rIns="90000" tIns="46800" bIns="46800" anchor="t">
            <a:normAutofit fontScale="95000"/>
          </a:bodyPr>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b5395"/>
                </a:solidFill>
                <a:uFillTx/>
                <a:latin typeface="Constantia"/>
              </a:rPr>
              <a:t>INCOME</a:t>
            </a:r>
            <a:r>
              <a:rPr b="1" i="1" lang="en-CA" sz="3200" spc="-1" strike="noStrike" u="sng">
                <a:solidFill>
                  <a:srgbClr val="0b5395"/>
                </a:solidFill>
                <a:uFillTx/>
                <a:latin typeface="Constantia"/>
              </a:rPr>
              <a:t>:</a:t>
            </a:r>
            <a:endParaRPr b="0" lang="en-US" sz="32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Starting Income: </a:t>
            </a:r>
            <a:r>
              <a:rPr b="0" lang="en-CA" sz="2800" spc="-1" strike="noStrike">
                <a:solidFill>
                  <a:srgbClr val="000000"/>
                </a:solidFill>
                <a:latin typeface="Constantia"/>
              </a:rPr>
              <a:t>$ 20,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Maximum Income:</a:t>
            </a:r>
            <a:r>
              <a:rPr b="0" lang="en-CA" sz="2800" spc="-1" strike="noStrike">
                <a:solidFill>
                  <a:srgbClr val="000000"/>
                </a:solidFill>
                <a:latin typeface="Constantia"/>
              </a:rPr>
              <a:t> $ 225,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 </a:t>
            </a:r>
            <a:r>
              <a:rPr b="1" lang="en-CA" sz="2800" spc="-1" strike="noStrike">
                <a:solidFill>
                  <a:srgbClr val="000000"/>
                </a:solidFill>
                <a:latin typeface="Constantia"/>
              </a:rPr>
              <a:t>Method of Payment:</a:t>
            </a:r>
            <a:r>
              <a:rPr b="0" lang="en-CA" sz="2800" spc="-1" strike="noStrike">
                <a:solidFill>
                  <a:srgbClr val="000000"/>
                </a:solidFill>
                <a:latin typeface="Constantia"/>
              </a:rPr>
              <a:t> </a:t>
            </a:r>
            <a:endParaRPr b="0" lang="en-US" sz="28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First year lawyers are typically paid a salary as are those who work for government agencies or as corporate lawyers for large companies.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ost lawyers who work for law firms are paid according to the number of hours they work.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artners at law firms usually get a percentage of the firm’s profits as well.</a:t>
            </a:r>
            <a:endParaRPr b="0" lang="en-US" sz="24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Benefits? : </a:t>
            </a:r>
            <a:r>
              <a:rPr b="0" lang="en-CA" sz="2800" spc="-1" strike="noStrike">
                <a:solidFill>
                  <a:srgbClr val="000000"/>
                </a:solidFill>
                <a:latin typeface="Constantia"/>
              </a:rPr>
              <a:t>Health care, life insurance, sick leave, days–off etc</a:t>
            </a:r>
            <a:r>
              <a:rPr b="1" lang="en-CA" sz="2800" spc="-1" strike="noStrike">
                <a:solidFill>
                  <a:srgbClr val="000000"/>
                </a:solidFill>
                <a:latin typeface="Constantia"/>
              </a:rPr>
              <a:t>.</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2D7D-07FC-4AEB-A519-B83A06AC322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760"/>
            <a:ext cx="7238880" cy="46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SKILLS REQUIRED:</a:t>
            </a:r>
            <a:endParaRPr b="0" lang="en-US" sz="4500" spc="-1" strike="noStrike">
              <a:solidFill>
                <a:srgbClr val="04617b"/>
              </a:solidFill>
              <a:latin typeface="Calibri"/>
            </a:endParaRPr>
          </a:p>
        </p:txBody>
      </p:sp>
      <p:sp>
        <p:nvSpPr>
          <p:cNvPr id="239" name=""/>
          <p:cNvSpPr txBox="1"/>
          <p:nvPr/>
        </p:nvSpPr>
        <p:spPr>
          <a:xfrm>
            <a:off x="457200" y="857160"/>
            <a:ext cx="7238880" cy="578664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for job: </a:t>
            </a:r>
            <a:endParaRPr b="0" lang="en-US" sz="18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adership</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unity Involvement</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Interpersonal Skills</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ittee Work</a:t>
            </a:r>
            <a:endParaRPr b="0" lang="en-US" sz="15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After graduating from law school, you still need to work for approximately 1 year as an articling student, under the direction of licensed lawyers (fortunately, you usually get paid for this) before you can become a licensed lawyer. You must also successfully complete the bar admission program.</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Strong analytical skills. </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Good people skill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The ability to work well under pressure</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A logical thinker who enjoys arguments and complex ideas.</a:t>
            </a: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lead cases or conduct prosecutions before courts of law, tribunals/boards, and negotiate civil dispute settle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ovide legal advice and represent cli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epare contracts, wills, and other legal docu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May act as executors, trustees or guardians in estate/family law matters.</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68BE-20A2-43FC-BBF8-3AA60589386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4200" y="-360"/>
            <a:ext cx="844416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s &amp; Conditions</a:t>
            </a:r>
            <a:endParaRPr b="0" lang="en-US" sz="4400" spc="-1" strike="noStrike">
              <a:solidFill>
                <a:srgbClr val="04617b"/>
              </a:solidFill>
              <a:latin typeface="Calibri"/>
            </a:endParaRPr>
          </a:p>
        </p:txBody>
      </p:sp>
      <p:sp>
        <p:nvSpPr>
          <p:cNvPr id="243" name=""/>
          <p:cNvSpPr txBox="1"/>
          <p:nvPr/>
        </p:nvSpPr>
        <p:spPr>
          <a:xfrm>
            <a:off x="457200" y="1143000"/>
            <a:ext cx="8229600" cy="550080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Where do I work :</a:t>
            </a:r>
            <a:r>
              <a:rPr b="0" lang="en-CA" sz="2600" spc="-1" strike="noStrike">
                <a:solidFill>
                  <a:srgbClr val="000000"/>
                </a:solidFill>
                <a:latin typeface="Constantia"/>
              </a:rPr>
              <a:t> Offic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Hazards? :</a:t>
            </a:r>
            <a:endParaRPr b="0" lang="en-US" sz="26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lient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Judge.</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pposition.</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Your very own briefcase.</a:t>
            </a:r>
            <a:endParaRPr b="0" lang="en-US" sz="22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Safety/Protective Equipment Needed? : </a:t>
            </a:r>
            <a:r>
              <a:rPr b="0" lang="en-CA" sz="2600" spc="-1" strike="noStrike">
                <a:solidFill>
                  <a:srgbClr val="000000"/>
                </a:solidFill>
                <a:latin typeface="Constantia"/>
              </a:rPr>
              <a:t>No</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Machines/Equipments?</a:t>
            </a:r>
            <a:r>
              <a:rPr b="0" lang="en-CA" sz="2600" spc="-1" strike="noStrike">
                <a:solidFill>
                  <a:srgbClr val="000000"/>
                </a:solidFill>
                <a:latin typeface="Constantia"/>
              </a:rPr>
              <a:t> </a:t>
            </a:r>
            <a:r>
              <a:rPr b="1" lang="en-CA" sz="2600" spc="-1" strike="noStrike">
                <a:solidFill>
                  <a:srgbClr val="000000"/>
                </a:solidFill>
                <a:latin typeface="Constantia"/>
              </a:rPr>
              <a:t>:</a:t>
            </a:r>
            <a:r>
              <a:rPr b="0" lang="en-CA" sz="2600" spc="-1" strike="noStrike">
                <a:solidFill>
                  <a:srgbClr val="000000"/>
                </a:solidFill>
                <a:latin typeface="Constantia"/>
              </a:rPr>
              <a:t> An elegant briefcase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lone or with others? : </a:t>
            </a:r>
            <a:r>
              <a:rPr b="0" lang="en-CA" sz="2600" spc="-1" strike="noStrike">
                <a:solidFill>
                  <a:srgbClr val="000000"/>
                </a:solidFill>
                <a:latin typeface="Constantia"/>
              </a:rPr>
              <a:t>Mostly alone except when meeting with cli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Is there a busy season/off season:</a:t>
            </a:r>
            <a:r>
              <a:rPr b="0" lang="en-CA" sz="2600" spc="-1" strike="noStrike">
                <a:solidFill>
                  <a:srgbClr val="000000"/>
                </a:solidFill>
                <a:latin typeface="Constantia"/>
              </a:rPr>
              <a:t> Off-season = summer;  mostly because of vacatio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2157-E7BD-428E-8079-E6010A833C3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0040" y="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JOB OUTLOOK:</a:t>
            </a:r>
            <a:endParaRPr b="0" lang="en-US" sz="5000" spc="-1" strike="noStrike">
              <a:solidFill>
                <a:srgbClr val="04617b"/>
              </a:solidFill>
              <a:latin typeface="Calibri"/>
            </a:endParaRPr>
          </a:p>
        </p:txBody>
      </p:sp>
      <p:sp>
        <p:nvSpPr>
          <p:cNvPr id="247" name=""/>
          <p:cNvSpPr txBox="1"/>
          <p:nvPr/>
        </p:nvSpPr>
        <p:spPr>
          <a:xfrm>
            <a:off x="457200" y="2214720"/>
            <a:ext cx="8229600" cy="42861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 : </a:t>
            </a:r>
            <a:r>
              <a:rPr b="0" lang="en-CA" sz="2600" spc="-1" strike="noStrike">
                <a:solidFill>
                  <a:srgbClr val="000000"/>
                </a:solidFill>
                <a:latin typeface="Constantia"/>
              </a:rPr>
              <a:t>Growing (a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  </a:t>
            </a:r>
            <a:r>
              <a:rPr b="0" lang="en-CA" sz="2600" spc="-1" strike="noStrike">
                <a:solidFill>
                  <a:srgbClr val="000000"/>
                </a:solidFill>
                <a:latin typeface="Constantia"/>
              </a:rPr>
              <a:t>1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1,970 (2010-2015)</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8ABA-DF59-4A9B-8E7D-E3BF65E0C62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57120" y="-360"/>
            <a:ext cx="822960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POST SECONDARY TRAINING:</a:t>
            </a:r>
            <a:endParaRPr b="0" lang="en-US" sz="4500" spc="-1" strike="noStrike">
              <a:solidFill>
                <a:srgbClr val="04617b"/>
              </a:solidFill>
              <a:latin typeface="Calibri"/>
            </a:endParaRPr>
          </a:p>
        </p:txBody>
      </p:sp>
      <p:sp>
        <p:nvSpPr>
          <p:cNvPr id="251"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ost secondary training needed: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dergraduate University Education.</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achelor’s Degree.</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 </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Bachelor of Law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LLB and Masters of Business Administration.</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ow long?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t least 2 years.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4 year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3 year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1 more year.</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laces to take Cours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British Columbia (UBC) Faculty of Law.</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Victoria Faculty of Law</a:t>
            </a:r>
            <a:endParaRPr b="0" lang="en-US" sz="19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What will it cost: </a:t>
            </a:r>
            <a:r>
              <a:rPr b="0" lang="en-CA" sz="2200" spc="-1" strike="noStrike">
                <a:solidFill>
                  <a:srgbClr val="000000"/>
                </a:solidFill>
                <a:latin typeface="Constantia"/>
              </a:rPr>
              <a:t>$12,687</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Scholarships/Bursari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nnie B. Jamieson Scholarship - $4,070(total) – min ‘A’</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ert Henry Memorial Scholarship - $18,000 (Over 4 yrs) – min ‘A’</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0CF5-A3E1-4C9F-ADC2-7040C7C0114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HIGH SCHOOL REQUIREMENTS:</a:t>
            </a:r>
            <a:endParaRPr b="0" lang="en-US" sz="5000" spc="-1" strike="noStrike">
              <a:solidFill>
                <a:srgbClr val="04617b"/>
              </a:solidFill>
              <a:latin typeface="Calibri"/>
            </a:endParaRPr>
          </a:p>
        </p:txBody>
      </p:sp>
      <p:sp>
        <p:nvSpPr>
          <p:cNvPr id="255" name=""/>
          <p:cNvSpPr txBox="1"/>
          <p:nvPr/>
        </p:nvSpPr>
        <p:spPr>
          <a:xfrm>
            <a:off x="457200" y="1356840"/>
            <a:ext cx="8229600" cy="52866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Course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ocial Studies (History / World Issu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Business &amp; Managemen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cienc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Math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nglish (Communic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French.</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conomics/Politics</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GPA Required? : </a:t>
            </a:r>
            <a:r>
              <a:rPr b="0" lang="en-CA" sz="2200" spc="-1" strike="noStrike">
                <a:solidFill>
                  <a:srgbClr val="000000"/>
                </a:solidFill>
                <a:latin typeface="Constantia"/>
              </a:rPr>
              <a:t>82 % or 3.2 on a 4.3 scal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Volunteer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Involvements in politic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ommunity Involvement. </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Debat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Grad-Council.</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lass Politics</a:t>
            </a:r>
            <a:endParaRPr b="0" lang="en-US" sz="20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ED5A-E16B-40AE-B120-FB125242EFC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4617b"/>
                </a:solidFill>
                <a:uFillTx/>
                <a:latin typeface="Calibri"/>
              </a:rPr>
              <a:t>!!! Attention !!!</a:t>
            </a:r>
            <a:endParaRPr b="0" lang="en-US" sz="5000" spc="-1" strike="noStrike">
              <a:solidFill>
                <a:srgbClr val="04617b"/>
              </a:solidFill>
              <a:latin typeface="Calibri"/>
            </a:endParaRPr>
          </a:p>
        </p:txBody>
      </p:sp>
      <p:sp>
        <p:nvSpPr>
          <p:cNvPr id="259" name=""/>
          <p:cNvSpPr txBox="1"/>
          <p:nvPr/>
        </p:nvSpPr>
        <p:spPr>
          <a:xfrm>
            <a:off x="457200" y="1934640"/>
            <a:ext cx="8229600" cy="327996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reached the </a:t>
            </a:r>
            <a:endParaRPr b="0" lang="en-US" sz="2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Last Page</a:t>
            </a:r>
            <a:endParaRPr b="0" lang="en-US" sz="54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is presentation</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back to work or go outside to play and enjoy the Spring because there is nothing else to see here</a:t>
            </a:r>
            <a:endParaRPr b="0" lang="en-US" sz="2600" spc="-1" strike="noStrike">
              <a:solidFill>
                <a:srgbClr val="000000"/>
              </a:solidFill>
              <a:latin typeface="Constantia"/>
            </a:endParaRPr>
          </a:p>
        </p:txBody>
      </p:sp>
      <p:sp>
        <p:nvSpPr>
          <p:cNvPr id="26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A0C4-A306-4218-8AD6-2FA1A0F555A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62" name="Picture 2" descr=""/>
          <p:cNvPicPr/>
          <p:nvPr/>
        </p:nvPicPr>
        <p:blipFill>
          <a:blip r:embed="rId1"/>
          <a:stretch/>
        </p:blipFill>
        <p:spPr>
          <a:xfrm>
            <a:off x="3286080" y="4714920"/>
            <a:ext cx="2476440" cy="1528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AREER CHOICE:</a:t>
            </a:r>
            <a:endParaRPr b="0" lang="en-US" sz="5000" spc="-1" strike="noStrike">
              <a:solidFill>
                <a:srgbClr val="04617b"/>
              </a:solidFill>
              <a:latin typeface="Calibri"/>
            </a:endParaRPr>
          </a:p>
        </p:txBody>
      </p:sp>
      <p:sp>
        <p:nvSpPr>
          <p:cNvPr id="201" name=""/>
          <p:cNvSpPr txBox="1"/>
          <p:nvPr/>
        </p:nvSpPr>
        <p:spPr>
          <a:xfrm>
            <a:off x="500040" y="2857320"/>
            <a:ext cx="8229600" cy="149364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nstantia"/>
              </a:rPr>
              <a:t>DOCTOR</a:t>
            </a:r>
            <a:endParaRPr b="0" lang="en-US" sz="8000" spc="-1" strike="noStrike">
              <a:solidFill>
                <a:srgbClr val="000000"/>
              </a:solidFill>
              <a:latin typeface="Constantia"/>
            </a:endParaRPr>
          </a:p>
        </p:txBody>
      </p:sp>
      <p:sp>
        <p:nvSpPr>
          <p:cNvPr id="20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732A-C4F8-4425-A283-5323C74FA96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04" name="Picture 3" descr="C:\Documents and Settings\M Jibreel Alam\Local Settings\Temporary Internet Files\Content.IE5\S2Q6RDQB\MCj00978430000[1].wmf"/>
          <p:cNvPicPr/>
          <p:nvPr/>
        </p:nvPicPr>
        <p:blipFill>
          <a:blip r:embed="rId1"/>
          <a:stretch/>
        </p:blipFill>
        <p:spPr>
          <a:xfrm>
            <a:off x="7143840" y="4572000"/>
            <a:ext cx="184788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u="sng">
                <a:solidFill>
                  <a:srgbClr val="000000"/>
                </a:solidFill>
                <a:uFillTx/>
                <a:latin typeface="Constantia"/>
              </a:rPr>
              <a:t>IN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Starting Income</a:t>
            </a:r>
            <a:r>
              <a:rPr b="0" lang="en-CA" sz="2600" spc="-1" strike="noStrike">
                <a:solidFill>
                  <a:srgbClr val="000000"/>
                </a:solidFill>
                <a:latin typeface="Constantia"/>
              </a:rPr>
              <a:t>:  $ 4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aximum Income</a:t>
            </a:r>
            <a:r>
              <a:rPr b="0" lang="en-CA" sz="2600" spc="-1" strike="noStrike">
                <a:solidFill>
                  <a:srgbClr val="000000"/>
                </a:solidFill>
                <a:latin typeface="Constantia"/>
              </a:rPr>
              <a:t>:  $ 40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ethod of Payment</a:t>
            </a:r>
            <a:r>
              <a:rPr b="0" lang="en-CA" sz="2600" spc="-1" strike="noStrike">
                <a:solidFill>
                  <a:srgbClr val="000000"/>
                </a:solidFill>
                <a:latin typeface="Constantia"/>
              </a:rPr>
              <a:t>:  By salary or con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Benefits</a:t>
            </a:r>
            <a:r>
              <a:rPr b="0" lang="en-CA" sz="2600" spc="-1" strike="noStrike">
                <a:solidFill>
                  <a:srgbClr val="000000"/>
                </a:solidFill>
                <a:latin typeface="Constantia"/>
              </a:rPr>
              <a:t>: Paid vacation days, dental coverage, and contributions to retirement    plans. Doctors who work in private practice must provide their own benefi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AC20-1F23-4FB0-9091-C4EFF0B5D62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0"/>
            <a:ext cx="8229600" cy="714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SKILLS</a:t>
            </a:r>
            <a:r>
              <a:rPr b="1" i="1" lang="en-CA" sz="4300" spc="-1" strike="noStrike" u="sng">
                <a:solidFill>
                  <a:srgbClr val="04617b"/>
                </a:solidFill>
                <a:uFillTx/>
                <a:latin typeface="Calibri"/>
              </a:rPr>
              <a:t> </a:t>
            </a:r>
            <a:r>
              <a:rPr b="1" i="1" lang="en-CA" sz="4500" spc="-1" strike="noStrike" u="sng">
                <a:solidFill>
                  <a:srgbClr val="04617b"/>
                </a:solidFill>
                <a:uFillTx/>
                <a:latin typeface="Calibri"/>
              </a:rPr>
              <a:t>REQUIRED</a:t>
            </a:r>
            <a:endParaRPr b="0" lang="en-US" sz="4500" spc="-1" strike="noStrike">
              <a:solidFill>
                <a:srgbClr val="04617b"/>
              </a:solidFill>
              <a:latin typeface="Calibri"/>
            </a:endParaRPr>
          </a:p>
        </p:txBody>
      </p:sp>
      <p:sp>
        <p:nvSpPr>
          <p:cNvPr id="210" name=""/>
          <p:cNvSpPr txBox="1"/>
          <p:nvPr/>
        </p:nvSpPr>
        <p:spPr>
          <a:xfrm>
            <a:off x="356760" y="642960"/>
            <a:ext cx="8472600" cy="621504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Multidisciplinary team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Business and financial management</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itte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personal skill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unity involvement</a:t>
            </a:r>
            <a:endParaRPr b="0" lang="en-US" sz="17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Complete certification exams administered by the Royal College of Physicians and Surgeons of Canada (RCPSC), or the Corporation professionnelle des médecins du Québec (CPMC) in Quebec. They also have to meet provincial licensing requiremen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r>
              <a:rPr b="0" lang="en-CA" sz="1800" spc="-1" strike="noStrike">
                <a:solidFill>
                  <a:srgbClr val="000000"/>
                </a:solidFill>
                <a:latin typeface="Constantia"/>
              </a:rPr>
              <a:t>To specialize in particular area, one has to complete a 4-7 years progra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viewing the patient to find his/her medical history</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nducting physical examin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Diagnose the problem or suggest a treatment program.</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escribing medic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ministrativ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ovide emergency care.</a:t>
            </a:r>
            <a:endParaRPr b="0" lang="en-US" sz="17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vise patients and their families on health care including health promotion, disease, illness and accident prevention</a:t>
            </a:r>
            <a:r>
              <a:rPr b="0" lang="en-C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9432-95BC-49C1-9981-FA7DE4B0B6E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14560"/>
            <a:ext cx="8229600" cy="500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 &amp; Conditions</a:t>
            </a:r>
            <a:endParaRPr b="0" lang="en-US" sz="4400" spc="-1" strike="noStrike">
              <a:solidFill>
                <a:srgbClr val="04617b"/>
              </a:solidFill>
              <a:latin typeface="Calibri"/>
            </a:endParaRPr>
          </a:p>
        </p:txBody>
      </p:sp>
      <p:sp>
        <p:nvSpPr>
          <p:cNvPr id="214" name=""/>
          <p:cNvSpPr txBox="1"/>
          <p:nvPr/>
        </p:nvSpPr>
        <p:spPr>
          <a:xfrm>
            <a:off x="457200" y="500040"/>
            <a:ext cx="8229600" cy="62150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ere do I work</a:t>
            </a:r>
            <a:r>
              <a:rPr b="0" lang="en-CA" sz="1600" spc="-1" strike="noStrike">
                <a:solidFill>
                  <a:srgbClr val="000000"/>
                </a:solidFill>
                <a:latin typeface="Constantia"/>
              </a:rPr>
              <a:t>:  In their own offices, hospitals and or clinic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azards? :</a:t>
            </a:r>
            <a:r>
              <a:rPr b="0" lang="en-CA" sz="1600" spc="-1" strike="noStrike">
                <a:solidFill>
                  <a:srgbClr val="000000"/>
                </a:solidFill>
                <a:latin typeface="Constantia"/>
              </a:rPr>
              <a:t>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angerous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Wrong medication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One’s life is on the lin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lean and sanitized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pute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Patients.</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afety/Protective Equipment:</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rile glove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mask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ab coat.</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anitize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ny Machines/Equipment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thoscop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lood Pressure cuff (</a:t>
            </a:r>
            <a:r>
              <a:rPr b="0" lang="en-US" sz="1500" spc="-1" strike="noStrike">
                <a:solidFill>
                  <a:srgbClr val="000000"/>
                </a:solidFill>
                <a:latin typeface="Constantia"/>
              </a:rPr>
              <a:t>Sphygmoman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herm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yring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instruments if necessary.</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lone or with others? : </a:t>
            </a:r>
            <a:r>
              <a:rPr b="0" lang="en-CA" sz="1600" spc="-1" strike="noStrike">
                <a:solidFill>
                  <a:srgbClr val="000000"/>
                </a:solidFill>
                <a:latin typeface="Constantia"/>
              </a:rPr>
              <a:t> If working private than alone or maybe with an assistant or nurse. In hospitals it is also alone except when doing surger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 busy season/off season:</a:t>
            </a:r>
            <a:r>
              <a:rPr b="0" lang="en-CA" sz="1600" spc="-1" strike="noStrike">
                <a:solidFill>
                  <a:srgbClr val="000000"/>
                </a:solidFill>
                <a:latin typeface="Constantia"/>
              </a:rPr>
              <a:t>   They must be ready to serve their patients at any time. Nevertheless if there is a riot, brawl or a natural catastrophe then the doctor will be busy and or during fall when the flu is really commo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F8F1-514F-491C-A14D-9444AAE36F3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858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JOB OUTLOOK</a:t>
            </a:r>
            <a:endParaRPr b="0" lang="en-US" sz="4500" spc="-1" strike="noStrike">
              <a:solidFill>
                <a:srgbClr val="04617b"/>
              </a:solidFill>
              <a:latin typeface="Calibri"/>
            </a:endParaRPr>
          </a:p>
        </p:txBody>
      </p:sp>
      <p:sp>
        <p:nvSpPr>
          <p:cNvPr id="218" name=""/>
          <p:cNvSpPr txBox="1"/>
          <p:nvPr/>
        </p:nvSpPr>
        <p:spPr>
          <a:xfrm>
            <a:off x="457200" y="999720"/>
            <a:ext cx="8229600" cy="51260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a:t>
            </a:r>
            <a:r>
              <a:rPr b="0" lang="en-CA" sz="2600" spc="-1" strike="noStrike">
                <a:solidFill>
                  <a:srgbClr val="000000"/>
                </a:solidFill>
                <a:latin typeface="Constantia"/>
              </a:rPr>
              <a:t> It is gr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a:t>
            </a:r>
            <a:r>
              <a:rPr b="0" lang="en-CA" sz="2600" spc="-1" strike="noStrike">
                <a:solidFill>
                  <a:srgbClr val="000000"/>
                </a:solidFill>
                <a:latin typeface="Constantia"/>
              </a:rPr>
              <a:t>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2,130 new job openings (2006-201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271B-E1DE-4CCF-8EB0-CB3DF26AABF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56760"/>
            <a:ext cx="8229600" cy="428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i="1" lang="en-CA" sz="4500" spc="-1" strike="noStrike" u="sng">
                <a:solidFill>
                  <a:srgbClr val="04617b"/>
                </a:solidFill>
                <a:uFillTx/>
                <a:latin typeface="Calibri"/>
              </a:rPr>
              <a:t> </a:t>
            </a:r>
            <a:r>
              <a:rPr b="1" i="1" lang="en-CA" sz="4500" spc="-1" strike="noStrike" u="sng">
                <a:solidFill>
                  <a:srgbClr val="04617b"/>
                </a:solidFill>
                <a:uFillTx/>
                <a:latin typeface="Calibri"/>
              </a:rPr>
              <a:t>POST SECONDARY EDUCATION:</a:t>
            </a:r>
            <a:endParaRPr b="0" lang="en-US" sz="4500" spc="-1" strike="noStrike">
              <a:solidFill>
                <a:srgbClr val="04617b"/>
              </a:solidFill>
              <a:latin typeface="Calibri"/>
            </a:endParaRPr>
          </a:p>
        </p:txBody>
      </p:sp>
      <p:sp>
        <p:nvSpPr>
          <p:cNvPr id="222" name=""/>
          <p:cNvSpPr txBox="1"/>
          <p:nvPr/>
        </p:nvSpPr>
        <p:spPr>
          <a:xfrm>
            <a:off x="457200" y="642960"/>
            <a:ext cx="8229600" cy="592920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ost secondary training needed: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dergraduate University Education.</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achelor’s Degre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octor of Medicine Degree (MD).</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Residency Program.</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Qualifying examinations of the Medical Council of Canad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 specialize in particular area (another residency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ow long will it take:</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2 – 3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3-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ss than a yea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7 years (depending on the area of specialization)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tal = about 15 yea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laces to take cours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iversity of British Columbia (UBC).</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Vancouver Fraser Medical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at will it cost : </a:t>
            </a:r>
            <a:r>
              <a:rPr b="0" lang="en-CA" sz="1600" spc="-1" strike="noStrike">
                <a:solidFill>
                  <a:srgbClr val="000000"/>
                </a:solidFill>
                <a:latin typeface="Constantia"/>
              </a:rPr>
              <a:t>$ 18,324</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cholarships/Bursari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hancellor's Entrance Scholarship - $20,000 (Over 4 yrs) – min ‘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National Entrance Scholarship - $14,000 (Over 4 yrs) – min avg. 90%</a:t>
            </a:r>
            <a:endParaRPr b="0" lang="en-US" sz="1500" spc="-1" strike="noStrike">
              <a:solidFill>
                <a:srgbClr val="000000"/>
              </a:solidFill>
              <a:latin typeface="Constantia"/>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06A8-92A1-48E7-8741-5FC0D34A4D5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0"/>
            <a:ext cx="8229600" cy="58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HIGH SCHOOL REQUIREMENTS:</a:t>
            </a:r>
            <a:endParaRPr b="0" lang="en-US" sz="4500" spc="-1" strike="noStrike">
              <a:solidFill>
                <a:srgbClr val="04617b"/>
              </a:solidFill>
              <a:latin typeface="Calibri"/>
            </a:endParaRPr>
          </a:p>
        </p:txBody>
      </p:sp>
      <p:sp>
        <p:nvSpPr>
          <p:cNvPr id="226"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High School Cours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t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iolog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hemistr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hysic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nglis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ocial Studies</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GPA Requirement: </a:t>
            </a:r>
            <a:r>
              <a:rPr b="0" lang="en-CA" sz="2400" spc="-1" strike="noStrike">
                <a:solidFill>
                  <a:srgbClr val="000000"/>
                </a:solidFill>
                <a:latin typeface="Constantia"/>
              </a:rPr>
              <a:t>3.5 or abov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Volunteer Activiti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Hospital.</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ursing activitie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munity Cent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Activities in High School:</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rst Ai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dership.</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5145-1796-4FD2-9D87-155EDAA7DBC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 CAREER CHOICE:</a:t>
            </a:r>
            <a:endParaRPr b="0" lang="en-US" sz="5000" spc="-1" strike="noStrike">
              <a:solidFill>
                <a:srgbClr val="04617b"/>
              </a:solidFill>
              <a:latin typeface="Calibri"/>
            </a:endParaRPr>
          </a:p>
        </p:txBody>
      </p:sp>
      <p:sp>
        <p:nvSpPr>
          <p:cNvPr id="230" name=""/>
          <p:cNvSpPr txBox="1"/>
          <p:nvPr/>
        </p:nvSpPr>
        <p:spPr>
          <a:xfrm>
            <a:off x="428760" y="2857320"/>
            <a:ext cx="8229600" cy="156492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70c0"/>
                </a:solidFill>
                <a:latin typeface="Constantia"/>
              </a:rPr>
              <a:t>LAWYER</a:t>
            </a:r>
            <a:endParaRPr b="0" lang="en-US" sz="8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739A-1847-4935-A239-118E048A7F7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33" name="Picture 5" descr="C:\Documents and Settings\M Jibreel Alam\Local Settings\Temporary Internet Files\Content.IE5\30CTUZZJ\MCj02876240000[1].wmf"/>
          <p:cNvPicPr/>
          <p:nvPr/>
        </p:nvPicPr>
        <p:blipFill>
          <a:blip r:embed="rId1"/>
          <a:stretch/>
        </p:blipFill>
        <p:spPr>
          <a:xfrm>
            <a:off x="6072120" y="4214880"/>
            <a:ext cx="2505240" cy="18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6:45:19Z</dcterms:created>
  <dc:creator>DR. Jibreel</dc:creator>
  <dc:description/>
  <dc:language>en-US</dc:language>
  <cp:lastModifiedBy>DR. Jibreel</cp:lastModifiedBy>
  <dcterms:modified xsi:type="dcterms:W3CDTF">2010-03-05T08:22:33Z</dcterms:modified>
  <cp:revision>10</cp:revision>
  <dc:subject/>
  <dc:title>Doctor</dc:title>
</cp:coreProperties>
</file>